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E1F4-D6F7-4ABC-A8B3-7A7EBBD02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28C4-065B-4357-894C-D917B5D84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59B0-F892-4B94-B11E-3AEF1EB9B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532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532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F761-0A51-440E-8E33-18D0372AAB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0F197-5AAE-4649-A2B2-F409DC1152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FFC0-9205-4060-B7B4-B2A8CF1E2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D57F-C1D6-4BA9-B934-D9506DFDD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BF48-7F72-419E-BD90-52C1AFBB1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3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9DE9-6C70-47F5-8344-EB80B73F2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D00E-C7E6-40EA-BFA3-6EDD92691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2C77-027F-45A0-BE54-F83D25AB4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7D42E-56A9-454C-B0EC-817538D12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5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78631A-8B65-437F-939A-8F9F6FE5DC6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7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LOS APARATOS CIRCULATORIOS Y SUS TIP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9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aparatos circulatorios y sus tip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48 Grupo"/>
          <p:cNvGrpSpPr/>
          <p:nvPr/>
        </p:nvGrpSpPr>
        <p:grpSpPr>
          <a:xfrm>
            <a:off x="3719520" y="755640"/>
            <a:ext cx="2087640" cy="1079640"/>
            <a:chOff x="3719520" y="755640"/>
            <a:chExt cx="2087640" cy="1079640"/>
          </a:xfrm>
        </p:grpSpPr>
        <p:sp>
          <p:nvSpPr>
            <p:cNvPr id="55" name="AutoShape 8"/>
            <p:cNvSpPr/>
            <p:nvPr/>
          </p:nvSpPr>
          <p:spPr>
            <a:xfrm>
              <a:off x="3719520" y="755640"/>
              <a:ext cx="2087640" cy="107964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3779640" y="980640"/>
              <a:ext cx="194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APARATO CIRCULATORI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AutoShape 19">
            <a:hlinkClick r:id="rId2" action="ppaction://hlinksldjump"/>
          </p:cNvPr>
          <p:cNvSpPr/>
          <p:nvPr/>
        </p:nvSpPr>
        <p:spPr>
          <a:xfrm>
            <a:off x="3600360" y="5038560"/>
            <a:ext cx="2122560" cy="1081080"/>
          </a:xfrm>
          <a:custGeom>
            <a:avLst/>
            <a:gdLst>
              <a:gd name="textAreaLeft" fmla="*/ 69840 w 2122560"/>
              <a:gd name="textAreaRight" fmla="*/ 2052720 w 212256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2402" h="21600">
                <a:moveTo>
                  <a:pt x="0" y="0"/>
                </a:moveTo>
                <a:lnTo>
                  <a:pt x="42402" y="0"/>
                </a:lnTo>
                <a:lnTo>
                  <a:pt x="42402" y="21600"/>
                </a:lnTo>
                <a:lnTo>
                  <a:pt x="0" y="21600"/>
                </a:lnTo>
                <a:close/>
              </a:path>
              <a:path fill="lightenLess" w="42402" h="21600">
                <a:moveTo>
                  <a:pt x="0" y="0"/>
                </a:moveTo>
                <a:lnTo>
                  <a:pt x="42402" y="0"/>
                </a:lnTo>
                <a:lnTo>
                  <a:pt x="41002" y="1400"/>
                </a:lnTo>
                <a:lnTo>
                  <a:pt x="1400" y="1400"/>
                </a:lnTo>
                <a:close/>
              </a:path>
              <a:path fill="darken" w="42402" h="21600">
                <a:moveTo>
                  <a:pt x="42402" y="0"/>
                </a:moveTo>
                <a:lnTo>
                  <a:pt x="42402" y="21600"/>
                </a:lnTo>
                <a:lnTo>
                  <a:pt x="41002" y="20200"/>
                </a:lnTo>
                <a:lnTo>
                  <a:pt x="41002" y="1400"/>
                </a:lnTo>
                <a:close/>
              </a:path>
              <a:path fill="darkenLess" w="42402" h="21600">
                <a:moveTo>
                  <a:pt x="42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02" y="20200"/>
                </a:lnTo>
                <a:close/>
              </a:path>
              <a:path fill="lighten" w="42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AutoShape 20">
            <a:hlinkClick r:id="rId3" action="ppaction://hlinksldjump"/>
          </p:cNvPr>
          <p:cNvSpPr/>
          <p:nvPr/>
        </p:nvSpPr>
        <p:spPr>
          <a:xfrm>
            <a:off x="6300720" y="5040360"/>
            <a:ext cx="2160720" cy="1079280"/>
          </a:xfrm>
          <a:custGeom>
            <a:avLst/>
            <a:gdLst>
              <a:gd name="textAreaLeft" fmla="*/ 69840 w 2160720"/>
              <a:gd name="textAreaRight" fmla="*/ 2090880 w 216072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179280" y="551664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" name="46 Grupo"/>
          <p:cNvGrpSpPr/>
          <p:nvPr/>
        </p:nvGrpSpPr>
        <p:grpSpPr>
          <a:xfrm>
            <a:off x="3348000" y="1844640"/>
            <a:ext cx="2738520" cy="1092240"/>
            <a:chOff x="3348000" y="1844640"/>
            <a:chExt cx="2738520" cy="1092240"/>
          </a:xfrm>
        </p:grpSpPr>
        <p:sp>
          <p:nvSpPr>
            <p:cNvPr id="61" name="Freeform 11"/>
            <p:cNvSpPr/>
            <p:nvPr/>
          </p:nvSpPr>
          <p:spPr>
            <a:xfrm>
              <a:off x="3348000" y="2637000"/>
              <a:ext cx="2737800" cy="1440"/>
            </a:xfrm>
            <a:custGeom>
              <a:avLst/>
              <a:gdLst>
                <a:gd name="textAreaLeft" fmla="*/ 0 w 2737800"/>
                <a:gd name="textAreaRight" fmla="*/ 2738160 w 2737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7603" h="5">
                  <a:moveTo>
                    <a:pt x="0" y="0"/>
                  </a:moveTo>
                  <a:lnTo>
                    <a:pt x="7602" y="4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>
              <a:off x="3348000" y="2637000"/>
              <a:ext cx="1440" cy="299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6" h="835">
                  <a:moveTo>
                    <a:pt x="0" y="834"/>
                  </a:moveTo>
                  <a:lnTo>
                    <a:pt x="5" y="0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13"/>
            <p:cNvSpPr/>
            <p:nvPr/>
          </p:nvSpPr>
          <p:spPr>
            <a:xfrm>
              <a:off x="6085080" y="2637000"/>
              <a:ext cx="1440" cy="299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6" h="835">
                  <a:moveTo>
                    <a:pt x="0" y="834"/>
                  </a:moveTo>
                  <a:lnTo>
                    <a:pt x="5" y="0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AutoShape 22"/>
            <p:cNvSpPr/>
            <p:nvPr/>
          </p:nvSpPr>
          <p:spPr>
            <a:xfrm>
              <a:off x="3780000" y="2016000"/>
              <a:ext cx="198000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dos tip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41 Conector recto"/>
            <p:cNvSpPr/>
            <p:nvPr/>
          </p:nvSpPr>
          <p:spPr>
            <a:xfrm>
              <a:off x="4716360" y="1844640"/>
              <a:ext cx="0" cy="216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44 Conector recto"/>
            <p:cNvSpPr/>
            <p:nvPr/>
          </p:nvSpPr>
          <p:spPr>
            <a:xfrm>
              <a:off x="4716360" y="2348640"/>
              <a:ext cx="0" cy="288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47 Grupo"/>
          <p:cNvGrpSpPr/>
          <p:nvPr/>
        </p:nvGrpSpPr>
        <p:grpSpPr>
          <a:xfrm>
            <a:off x="4643280" y="4005360"/>
            <a:ext cx="2738520" cy="1092240"/>
            <a:chOff x="4643280" y="4005360"/>
            <a:chExt cx="2738520" cy="1092240"/>
          </a:xfrm>
        </p:grpSpPr>
        <p:sp>
          <p:nvSpPr>
            <p:cNvPr id="68" name="Freeform 25"/>
            <p:cNvSpPr/>
            <p:nvPr/>
          </p:nvSpPr>
          <p:spPr>
            <a:xfrm>
              <a:off x="4643280" y="4797720"/>
              <a:ext cx="2737800" cy="1440"/>
            </a:xfrm>
            <a:custGeom>
              <a:avLst/>
              <a:gdLst>
                <a:gd name="textAreaLeft" fmla="*/ 0 w 2737800"/>
                <a:gd name="textAreaRight" fmla="*/ 2738160 w 2737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7604" h="6">
                  <a:moveTo>
                    <a:pt x="0" y="0"/>
                  </a:moveTo>
                  <a:lnTo>
                    <a:pt x="7603" y="5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4643280" y="4797720"/>
              <a:ext cx="1440" cy="299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6" h="834">
                  <a:moveTo>
                    <a:pt x="0" y="833"/>
                  </a:moveTo>
                  <a:lnTo>
                    <a:pt x="5" y="0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7380360" y="4797720"/>
              <a:ext cx="1440" cy="299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5" h="834">
                  <a:moveTo>
                    <a:pt x="0" y="833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31"/>
            <p:cNvSpPr/>
            <p:nvPr/>
          </p:nvSpPr>
          <p:spPr>
            <a:xfrm>
              <a:off x="5074560" y="4156200"/>
              <a:ext cx="198000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puede 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42 Conector recto"/>
            <p:cNvSpPr/>
            <p:nvPr/>
          </p:nvSpPr>
          <p:spPr>
            <a:xfrm>
              <a:off x="6155640" y="4005360"/>
              <a:ext cx="0" cy="216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45 Conector recto"/>
            <p:cNvSpPr/>
            <p:nvPr/>
          </p:nvSpPr>
          <p:spPr>
            <a:xfrm>
              <a:off x="6155640" y="4509360"/>
              <a:ext cx="0" cy="288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49 Grupo"/>
          <p:cNvGrpSpPr/>
          <p:nvPr/>
        </p:nvGrpSpPr>
        <p:grpSpPr>
          <a:xfrm>
            <a:off x="2340000" y="2898720"/>
            <a:ext cx="2087640" cy="1081080"/>
            <a:chOff x="2340000" y="2898720"/>
            <a:chExt cx="2087640" cy="1081080"/>
          </a:xfrm>
        </p:grpSpPr>
        <p:sp>
          <p:nvSpPr>
            <p:cNvPr id="75" name="AutoShape 7"/>
            <p:cNvSpPr/>
            <p:nvPr/>
          </p:nvSpPr>
          <p:spPr>
            <a:xfrm>
              <a:off x="2340000" y="2898720"/>
              <a:ext cx="2087640" cy="108108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15"/>
            <p:cNvSpPr/>
            <p:nvPr/>
          </p:nvSpPr>
          <p:spPr>
            <a:xfrm>
              <a:off x="2411280" y="3259080"/>
              <a:ext cx="194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ABIER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50 Grupo"/>
          <p:cNvGrpSpPr/>
          <p:nvPr/>
        </p:nvGrpSpPr>
        <p:grpSpPr>
          <a:xfrm>
            <a:off x="5076720" y="2898720"/>
            <a:ext cx="2087640" cy="1081080"/>
            <a:chOff x="5076720" y="2898720"/>
            <a:chExt cx="2087640" cy="1081080"/>
          </a:xfrm>
        </p:grpSpPr>
        <p:sp>
          <p:nvSpPr>
            <p:cNvPr id="78" name="AutoShape 10">
              <a:hlinkClick r:id="rId4" action="ppaction://hlinksldjump"/>
            </p:cNvPr>
            <p:cNvSpPr/>
            <p:nvPr/>
          </p:nvSpPr>
          <p:spPr>
            <a:xfrm>
              <a:off x="5076720" y="2898720"/>
              <a:ext cx="2087640" cy="108108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Text Box 16">
              <a:hlinkClick r:id="rId5" action="ppaction://hlinksldjump"/>
            </p:cNvPr>
            <p:cNvSpPr/>
            <p:nvPr/>
          </p:nvSpPr>
          <p:spPr>
            <a:xfrm>
              <a:off x="5148000" y="3259080"/>
              <a:ext cx="194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CERRA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51 Grupo"/>
          <p:cNvGrpSpPr/>
          <p:nvPr/>
        </p:nvGrpSpPr>
        <p:grpSpPr>
          <a:xfrm>
            <a:off x="3635280" y="5038560"/>
            <a:ext cx="2087640" cy="1081080"/>
            <a:chOff x="3635280" y="5038560"/>
            <a:chExt cx="2087640" cy="1081080"/>
          </a:xfrm>
        </p:grpSpPr>
        <p:sp>
          <p:nvSpPr>
            <p:cNvPr id="81" name="AutoShape 23">
              <a:hlinkClick r:id="rId6" action="ppaction://hlinksldjump"/>
            </p:cNvPr>
            <p:cNvSpPr/>
            <p:nvPr/>
          </p:nvSpPr>
          <p:spPr>
            <a:xfrm>
              <a:off x="3635280" y="5038560"/>
              <a:ext cx="2087640" cy="108108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Text Box 29">
              <a:hlinkClick r:id="rId7" action="ppaction://hlinksldjump"/>
            </p:cNvPr>
            <p:cNvSpPr/>
            <p:nvPr/>
          </p:nvSpPr>
          <p:spPr>
            <a:xfrm>
              <a:off x="3706560" y="5398920"/>
              <a:ext cx="194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SIMP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52 Grupo"/>
          <p:cNvGrpSpPr/>
          <p:nvPr/>
        </p:nvGrpSpPr>
        <p:grpSpPr>
          <a:xfrm>
            <a:off x="6372360" y="5038560"/>
            <a:ext cx="2087280" cy="1081080"/>
            <a:chOff x="6372360" y="5038560"/>
            <a:chExt cx="2087280" cy="1081080"/>
          </a:xfrm>
        </p:grpSpPr>
        <p:sp>
          <p:nvSpPr>
            <p:cNvPr id="84" name="AutoShape 24">
              <a:hlinkClick r:id="rId8" action="ppaction://hlinksldjump"/>
            </p:cNvPr>
            <p:cNvSpPr/>
            <p:nvPr/>
          </p:nvSpPr>
          <p:spPr>
            <a:xfrm>
              <a:off x="6372360" y="5038560"/>
              <a:ext cx="2087280" cy="108108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Text Box 30">
              <a:hlinkClick r:id="rId9" action="ppaction://hlinksldjump"/>
            </p:cNvPr>
            <p:cNvSpPr/>
            <p:nvPr/>
          </p:nvSpPr>
          <p:spPr>
            <a:xfrm>
              <a:off x="6443640" y="539892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DOB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87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aparatos circulatorios y sus tip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3697200" y="3284640"/>
            <a:ext cx="1954440" cy="2952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971640" y="1419120"/>
            <a:ext cx="727236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a en la mayor parte de animales y consta 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Un líquido circulante, como la sangre, que transporta sustancias por el organism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Unos conductos o vasos, por donde circula dicho líqui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Un mecanismo propulsor, el corazón, que hace circular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el líqui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parato circulato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443640" y="4437000"/>
            <a:ext cx="1800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asos sanquíneo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rteri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en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pila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1692360" y="393372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raz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258920" y="540720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Ejemplo de sistema circulatorio cerrado de un mamíf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15"/>
          <p:cNvSpPr/>
          <p:nvPr/>
        </p:nvSpPr>
        <p:spPr>
          <a:xfrm>
            <a:off x="2579760" y="4114800"/>
            <a:ext cx="1782720" cy="731880"/>
          </a:xfrm>
          <a:custGeom>
            <a:avLst/>
            <a:gdLst>
              <a:gd name="textAreaLeft" fmla="*/ 0 w 1782720"/>
              <a:gd name="textAreaRight" fmla="*/ 1783080 w 17827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w="4953" h="2034">
                <a:moveTo>
                  <a:pt x="0" y="0"/>
                </a:moveTo>
                <a:lnTo>
                  <a:pt x="4952" y="203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16"/>
          <p:cNvSpPr/>
          <p:nvPr/>
        </p:nvSpPr>
        <p:spPr>
          <a:xfrm>
            <a:off x="5438880" y="4809960"/>
            <a:ext cx="1066680" cy="4035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403560"/>
              <a:gd name="textAreaBottom" fmla="*/ 403920 h 403560"/>
            </a:gdLst>
            <a:ahLst/>
            <a:rect l="textAreaLeft" t="textAreaTop" r="textAreaRight" b="textAreaBottom"/>
            <a:pathLst>
              <a:path w="2964" h="1122">
                <a:moveTo>
                  <a:pt x="2963" y="0"/>
                </a:moveTo>
                <a:lnTo>
                  <a:pt x="0" y="112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17"/>
          <p:cNvSpPr/>
          <p:nvPr/>
        </p:nvSpPr>
        <p:spPr>
          <a:xfrm>
            <a:off x="4441680" y="4221000"/>
            <a:ext cx="2063880" cy="592200"/>
          </a:xfrm>
          <a:custGeom>
            <a:avLst/>
            <a:gdLst>
              <a:gd name="textAreaLeft" fmla="*/ 0 w 2063880"/>
              <a:gd name="textAreaRight" fmla="*/ 2064240 w 206388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5734" h="1646">
                <a:moveTo>
                  <a:pt x="5733" y="164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18"/>
          <p:cNvSpPr/>
          <p:nvPr/>
        </p:nvSpPr>
        <p:spPr>
          <a:xfrm>
            <a:off x="4140360" y="5002200"/>
            <a:ext cx="2365200" cy="593640"/>
          </a:xfrm>
          <a:custGeom>
            <a:avLst/>
            <a:gdLst>
              <a:gd name="textAreaLeft" fmla="*/ 0 w 2365200"/>
              <a:gd name="textAreaRight" fmla="*/ 2365560 w 236520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6571" h="1650">
                <a:moveTo>
                  <a:pt x="6570" y="0"/>
                </a:moveTo>
                <a:lnTo>
                  <a:pt x="0" y="164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19"/>
          <p:cNvSpPr/>
          <p:nvPr/>
        </p:nvSpPr>
        <p:spPr>
          <a:xfrm>
            <a:off x="5264280" y="4130640"/>
            <a:ext cx="1241280" cy="87480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3449" h="2431">
                <a:moveTo>
                  <a:pt x="3448" y="243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20"/>
          <p:cNvSpPr/>
          <p:nvPr/>
        </p:nvSpPr>
        <p:spPr>
          <a:xfrm>
            <a:off x="4734000" y="5213520"/>
            <a:ext cx="1716120" cy="685800"/>
          </a:xfrm>
          <a:custGeom>
            <a:avLst/>
            <a:gdLst>
              <a:gd name="textAreaLeft" fmla="*/ 0 w 1716120"/>
              <a:gd name="textAreaRight" fmla="*/ 1716480 w 1716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4768" h="1906">
                <a:moveTo>
                  <a:pt x="4767" y="0"/>
                </a:moveTo>
                <a:lnTo>
                  <a:pt x="0" y="190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2843280" y="2637000"/>
            <a:ext cx="3765600" cy="40068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08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aparatos circulatorios y sus tip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2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Text Box 8"/>
          <p:cNvSpPr/>
          <p:nvPr/>
        </p:nvSpPr>
        <p:spPr>
          <a:xfrm>
            <a:off x="971640" y="1419120"/>
            <a:ext cx="72723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io de artrópodos y molusc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líquido circulante sale de los vasos para bañar los tejidos del cuerpo, y, una vez intercambian las sustancias co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élulas, regresan a los vas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con aparato circulatorio abier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11280" y="5262480"/>
            <a:ext cx="21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Sistema circulatorio abierto de un artróp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826920" y="3141720"/>
            <a:ext cx="194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líquido circulante entra y sale de los vasos para intercambiar sustanci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6804000" y="290664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 corazón con orificios impulsa el líquido circula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Freeform 15"/>
          <p:cNvSpPr/>
          <p:nvPr/>
        </p:nvSpPr>
        <p:spPr>
          <a:xfrm>
            <a:off x="2084400" y="3510000"/>
            <a:ext cx="2048040" cy="323640"/>
          </a:xfrm>
          <a:custGeom>
            <a:avLst/>
            <a:gdLst>
              <a:gd name="textAreaLeft" fmla="*/ 0 w 2048040"/>
              <a:gd name="textAreaRight" fmla="*/ 2048400 w 20480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5690" h="900">
                <a:moveTo>
                  <a:pt x="0" y="899"/>
                </a:moveTo>
                <a:lnTo>
                  <a:pt x="568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Freeform 16"/>
          <p:cNvSpPr/>
          <p:nvPr/>
        </p:nvSpPr>
        <p:spPr>
          <a:xfrm>
            <a:off x="5210280" y="3144960"/>
            <a:ext cx="1585800" cy="75960"/>
          </a:xfrm>
          <a:custGeom>
            <a:avLst/>
            <a:gdLst>
              <a:gd name="textAreaLeft" fmla="*/ 0 w 1585800"/>
              <a:gd name="textAreaRight" fmla="*/ 1586160 w 15858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4406" h="212">
                <a:moveTo>
                  <a:pt x="4405" y="21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2664000" cy="34164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24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aparatos circulatorios y sus tip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Text Box 8"/>
          <p:cNvSpPr/>
          <p:nvPr/>
        </p:nvSpPr>
        <p:spPr>
          <a:xfrm>
            <a:off x="755640" y="1268280"/>
            <a:ext cx="838836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io de vertebrados y algunos invertebrados, como los anéli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líquido circulante siempre se halla dentro de los vasos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intercambio de sustancias se da a través de las parede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os vasos más finos, llamados capila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isten dos tip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Sim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Do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con aparato circulatorio cer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403280" y="5262480"/>
            <a:ext cx="21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Sistema circulatorio cerrado de un pe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6948360" y="414972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 corazón sin orificios impulsa el líquido circula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6732720" y="314172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líquido circulante va siempre dentro de los vas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232000" y="4094280"/>
            <a:ext cx="165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as sustancias se intercambian en los capila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 flipV="1">
            <a:off x="3713040" y="3688920"/>
            <a:ext cx="938160" cy="7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6210000" y="3603600"/>
            <a:ext cx="539640" cy="9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 flipV="1">
            <a:off x="5570280" y="4274640"/>
            <a:ext cx="1407960" cy="15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2664000" cy="34164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42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aparatos circulatorios y sus tip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6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Text Box 8"/>
          <p:cNvSpPr/>
          <p:nvPr/>
        </p:nvSpPr>
        <p:spPr>
          <a:xfrm>
            <a:off x="900000" y="1197000"/>
            <a:ext cx="727236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a en algunos invertebrados y en pec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orazón impulsa el líquido circulante, que va a los órganos respiratorios, donde toma oxígeno, y de allí va al rest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l cuer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vez intercambia sustancias con el cuerpo, la sangre vuelve al coraz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900000" y="7650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con aparato circulatorio cerrado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250920" y="5516640"/>
            <a:ext cx="21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Sistema circulatorio cerrado simp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de un pe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6948360" y="414972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corazón impulsa la sangr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6732720" y="314172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sangre va a las branquias donde recoge oxígen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1908000" y="3213000"/>
            <a:ext cx="18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La sangre se reparte por el cuerpo para intercambiar sustancia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Freeform 15"/>
          <p:cNvSpPr/>
          <p:nvPr/>
        </p:nvSpPr>
        <p:spPr>
          <a:xfrm>
            <a:off x="3780000" y="3429000"/>
            <a:ext cx="866520" cy="55440"/>
          </a:xfrm>
          <a:custGeom>
            <a:avLst/>
            <a:gdLst>
              <a:gd name="textAreaLeft" fmla="*/ 0 w 866520"/>
              <a:gd name="textAreaRight" fmla="*/ 866880 w 8665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797" h="764">
                <a:moveTo>
                  <a:pt x="0" y="0"/>
                </a:moveTo>
                <a:lnTo>
                  <a:pt x="2796" y="76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Freeform 16"/>
          <p:cNvSpPr/>
          <p:nvPr/>
        </p:nvSpPr>
        <p:spPr>
          <a:xfrm>
            <a:off x="6143760" y="3603600"/>
            <a:ext cx="603000" cy="100080"/>
          </a:xfrm>
          <a:custGeom>
            <a:avLst/>
            <a:gdLst>
              <a:gd name="textAreaLeft" fmla="*/ 0 w 603000"/>
              <a:gd name="textAreaRight" fmla="*/ 603360 w 60300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676" h="279">
                <a:moveTo>
                  <a:pt x="1675" y="0"/>
                </a:moveTo>
                <a:lnTo>
                  <a:pt x="0" y="27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Freeform 17"/>
          <p:cNvSpPr/>
          <p:nvPr/>
        </p:nvSpPr>
        <p:spPr>
          <a:xfrm>
            <a:off x="5573880" y="4278240"/>
            <a:ext cx="1401480" cy="149400"/>
          </a:xfrm>
          <a:custGeom>
            <a:avLst/>
            <a:gdLst>
              <a:gd name="textAreaLeft" fmla="*/ 0 w 1401480"/>
              <a:gd name="textAreaRight" fmla="*/ 1401840 w 140148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3894" h="416">
                <a:moveTo>
                  <a:pt x="3893" y="4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2268360" y="4508640"/>
            <a:ext cx="165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La sangre  vuelve de los distintos órganos al corazó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Freeform 19"/>
          <p:cNvSpPr/>
          <p:nvPr/>
        </p:nvSpPr>
        <p:spPr>
          <a:xfrm>
            <a:off x="3656160" y="4132440"/>
            <a:ext cx="1199880" cy="606240"/>
          </a:xfrm>
          <a:custGeom>
            <a:avLst/>
            <a:gdLst>
              <a:gd name="textAreaLeft" fmla="*/ 0 w 1199880"/>
              <a:gd name="textAreaRight" fmla="*/ 1200240 w 119988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3334" h="1685">
                <a:moveTo>
                  <a:pt x="0" y="1684"/>
                </a:moveTo>
                <a:lnTo>
                  <a:pt x="333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1557360" y="3419640"/>
            <a:ext cx="1681200" cy="2966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4680000" y="3402000"/>
            <a:ext cx="1800000" cy="2898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3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63" name="AutoShape 4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Text Box 5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6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aparatos circulatorios y sus tip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7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7" name="Picture 8" descr=""/>
            <p:cNvPicPr/>
            <p:nvPr/>
          </p:nvPicPr>
          <p:blipFill>
            <a:blip r:embed="rId3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9"/>
          <p:cNvSpPr/>
          <p:nvPr/>
        </p:nvSpPr>
        <p:spPr>
          <a:xfrm>
            <a:off x="684360" y="1268280"/>
            <a:ext cx="72723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a en vertebrados terrest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razón impulsa la sangre hacia los pulmones en la circulación menor. En ellos suelta dióxido de carbono y toma oxígen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 la sangre regresa al corazón, donde es impulsada a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órganos. En ellos se produce el intercambio de sustanci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os diferentes órganos, la sangre vuelve al coraz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826920" y="7650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con aparato circulatorio cerrado do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79280" y="5219640"/>
            <a:ext cx="162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Sistema circulatorio cerrado doble de un a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2879640" y="393696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corazón impulsa la sangr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696000" y="299736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sangre va a los pulmones, donde recoge oxígeno, y regresa al corazó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7020000" y="4060800"/>
            <a:ext cx="165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l corazón vuelve a bombear la sangre, que va a los distintos órgan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Freeform 16"/>
          <p:cNvSpPr/>
          <p:nvPr/>
        </p:nvSpPr>
        <p:spPr>
          <a:xfrm>
            <a:off x="5594400" y="4471920"/>
            <a:ext cx="1393920" cy="47628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3873" h="1324">
                <a:moveTo>
                  <a:pt x="3872" y="0"/>
                </a:moveTo>
                <a:lnTo>
                  <a:pt x="0" y="132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17"/>
          <p:cNvSpPr/>
          <p:nvPr/>
        </p:nvSpPr>
        <p:spPr>
          <a:xfrm>
            <a:off x="5640480" y="3484440"/>
            <a:ext cx="1073160" cy="2653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982" h="738">
                <a:moveTo>
                  <a:pt x="2981" y="0"/>
                </a:moveTo>
                <a:lnTo>
                  <a:pt x="0" y="73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Freeform 18"/>
          <p:cNvSpPr/>
          <p:nvPr/>
        </p:nvSpPr>
        <p:spPr>
          <a:xfrm>
            <a:off x="4289400" y="4297320"/>
            <a:ext cx="1179360" cy="65880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3277" h="1831">
                <a:moveTo>
                  <a:pt x="0" y="0"/>
                </a:moveTo>
                <a:lnTo>
                  <a:pt x="3276" y="183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7199280" y="5319720"/>
            <a:ext cx="165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La sangre  vuelve de los distintos órganos al corazó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Freeform 20"/>
          <p:cNvSpPr/>
          <p:nvPr/>
        </p:nvSpPr>
        <p:spPr>
          <a:xfrm>
            <a:off x="5008680" y="5392800"/>
            <a:ext cx="2189160" cy="28728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6082" h="799">
                <a:moveTo>
                  <a:pt x="6081" y="79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AutoShape 21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 luis</cp:lastModifiedBy>
  <dcterms:modified xsi:type="dcterms:W3CDTF">2012-10-04T16:38:27Z</dcterms:modified>
  <cp:revision>17</cp:revision>
  <dc:subject/>
  <dc:title>Presentación de PowerPoint</dc:title>
</cp:coreProperties>
</file>